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6.jpeg" ContentType="image/jpeg"/>
  <Override PartName="/ppt/media/image19.jpeg" ContentType="image/jpeg"/>
  <Override PartName="/ppt/media/image31.wmf" ContentType="image/x-wmf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C89C-6FD0-4371-957B-CC0F6A36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9BF7-418C-4F9F-A780-D1E6DDC85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B9FAC-6914-4AFA-BB3E-C145B643D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82B1-3875-4DA4-A43A-3BCAD38F3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185-374A-4C3A-9570-117FECFAA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DE92-F9F2-41EC-9657-DA28B8CCE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007F-CB92-4D6B-94CB-0868B9E0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5A57-6BB4-4CB6-AA47-3BCF7148C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AB7B-AEC7-4957-982F-97A980D38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F6BD-3739-4E81-85C4-00C998B78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0D5CD-E5E1-4E2D-AE46-23F4FBCC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34D-4DDF-4EEC-8CC7-55FF0D2DE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DAD6B-945C-4EC2-8A10-3B488C39F8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image" Target="../media/image1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1.wmf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322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6095880"/>
            <a:ext cx="3200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ren Stri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5251" t="0" r="1596" b="3530"/>
          <a:stretch/>
        </p:blipFill>
        <p:spPr>
          <a:xfrm>
            <a:off x="0" y="0"/>
            <a:ext cx="9144000" cy="68864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803480" y="4724280"/>
            <a:ext cx="413712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t soups, hot p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over-hot brea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 winter the warm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the inside of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rcRect l="5251" t="0" r="0" b="0"/>
          <a:stretch/>
        </p:blipFill>
        <p:spPr>
          <a:xfrm>
            <a:off x="0" y="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9000" y="5181480"/>
            <a:ext cx="41202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inter comes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mer’s cool fans hi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dark basement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rcRect l="3426" t="0" r="2511" b="0"/>
          <a:stretch/>
        </p:blipFill>
        <p:spPr>
          <a:xfrm>
            <a:off x="0" y="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506760" y="4724280"/>
            <a:ext cx="50544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sleeping radiators aw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ir dragon selves, ban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issing and pouring he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through my hou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5251" t="0" r="5251" b="0"/>
          <a:stretch/>
        </p:blipFill>
        <p:spPr>
          <a:xfrm>
            <a:off x="0" y="0"/>
            <a:ext cx="9144000" cy="6810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35680" y="4495680"/>
            <a:ext cx="370404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inter com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s sit on l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ead of windowsil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5479" t="0" r="2282" b="0"/>
          <a:stretch/>
        </p:blipFill>
        <p:spPr>
          <a:xfrm>
            <a:off x="0" y="0"/>
            <a:ext cx="9144000" cy="6908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31480" y="304920"/>
            <a:ext cx="54644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nights are warmer in wi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22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59720" y="3962520"/>
            <a:ext cx="49539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es burn in firepl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dles burn in candlepla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7076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5261040" y="304920"/>
            <a:ext cx="34696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think par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warmer in win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rcRect l="0" t="0" r="5717" b="0"/>
          <a:stretch/>
        </p:blipFill>
        <p:spPr>
          <a:xfrm>
            <a:off x="0" y="0"/>
            <a:ext cx="5029200" cy="3878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rcRect l="7606" t="0" r="0" b="0"/>
          <a:stretch/>
        </p:blipFill>
        <p:spPr>
          <a:xfrm>
            <a:off x="4514760" y="3214800"/>
            <a:ext cx="4629240" cy="36432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308880" y="104760"/>
            <a:ext cx="52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when summer’s cool swi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733200" y="5334120"/>
            <a:ext cx="4934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to winter’s hot baths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7076" t="17580" r="0" b="0"/>
          <a:stretch/>
        </p:blipFill>
        <p:spPr>
          <a:xfrm>
            <a:off x="0" y="990720"/>
            <a:ext cx="5257800" cy="33908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rcRect l="3654" t="0" r="24773" b="17112"/>
          <a:stretch/>
        </p:blipFill>
        <p:spPr>
          <a:xfrm>
            <a:off x="5181480" y="990720"/>
            <a:ext cx="3962520" cy="3336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0" y="3048120"/>
            <a:ext cx="3886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know my paj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l grow big warm f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7076" t="5459" r="29783" b="11534"/>
          <a:stretch/>
        </p:blipFill>
        <p:spPr>
          <a:xfrm>
            <a:off x="4800600" y="1600200"/>
            <a:ext cx="4343400" cy="415296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5251" t="3768" r="8905" b="0"/>
          <a:stretch/>
        </p:blipFill>
        <p:spPr>
          <a:xfrm>
            <a:off x="0" y="1600200"/>
            <a:ext cx="5105520" cy="4162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30840" y="1600200"/>
            <a:ext cx="521136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bed is warmest in win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led high with blankets of plai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nkets striped yell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a blue starry quilt on to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02280" y="1143000"/>
            <a:ext cx="504072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DJ Cozy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 is the warmest sea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17724" t="10449" r="3797" b="0"/>
          <a:stretch/>
        </p:blipFill>
        <p:spPr>
          <a:xfrm>
            <a:off x="0" y="914400"/>
            <a:ext cx="4724280" cy="39196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rcRect l="2740" t="0" r="15989" b="6272"/>
          <a:stretch/>
        </p:blipFill>
        <p:spPr>
          <a:xfrm>
            <a:off x="4419720" y="914400"/>
            <a:ext cx="4724280" cy="39625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762120" y="5410080"/>
            <a:ext cx="75438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winter, bodies sit closer, books last long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hugs squeeze the warme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4340" t="0" r="0" b="0"/>
          <a:stretch/>
        </p:blipFill>
        <p:spPr>
          <a:xfrm>
            <a:off x="0" y="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3760" y="609480"/>
            <a:ext cx="41583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 friends are warm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5251" t="2753" r="2369" b="43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11280" y="5105520"/>
            <a:ext cx="66319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n winter, when it’s the very warm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I close my sleepy ey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might dream of summer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2511" t="2278" r="616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00400" y="228600"/>
            <a:ext cx="30718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to cool me off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xt organizational patter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the author thinking when she wrote this boo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s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ef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nter by 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s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ategori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 the examp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d she use these examples to show the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asons wh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ittle boy thinks winter is a warm seas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295280" y="228600"/>
            <a:ext cx="6934320" cy="64008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3426" t="0" r="7076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4040" y="0"/>
            <a:ext cx="71629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457200"/>
            <a:ext cx="6019920" cy="571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57600" y="2743200"/>
            <a:ext cx="129528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624852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inter is the Warmest Sea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00200" y="30481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pl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1676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flaps on my 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181480" y="91440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rm wooly swea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14600" y="3962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soups, pies, and b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52240" y="3505320"/>
            <a:ext cx="21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illed chee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28800" y="2362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s on l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502920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c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990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di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410080" y="2666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t ba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5334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jamas with f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038480" y="472428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ankets of pla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212920" y="1146240"/>
            <a:ext cx="148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now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5600" y="533520"/>
            <a:ext cx="14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ld wi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16240" y="3011400"/>
            <a:ext cx="13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w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78720" y="51084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bare tr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54280" y="4495680"/>
            <a:ext cx="21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t. Charles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46280" y="2209680"/>
            <a:ext cx="199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ot cho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261480" y="838080"/>
            <a:ext cx="16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ff0000"/>
                </a:solidFill>
                <a:latin typeface="Arial"/>
              </a:rPr>
              <a:t>st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gra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359360" y="598320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v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rcRect l="23438" t="32293" r="21876" b="22917"/>
          <a:stretch/>
        </p:blipFill>
        <p:spPr>
          <a:xfrm>
            <a:off x="0" y="304920"/>
            <a:ext cx="914400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rcRect l="23438" t="29168" r="21876" b="21878"/>
          <a:stretch/>
        </p:blipFill>
        <p:spPr>
          <a:xfrm>
            <a:off x="0" y="0"/>
            <a:ext cx="9144000" cy="61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5791320" y="2057400"/>
            <a:ext cx="3124080" cy="2514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ter i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rm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ason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09680" y="228600"/>
            <a:ext cx="2362320" cy="1295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o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3880" y="1905120"/>
            <a:ext cx="2362320" cy="1066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3352680"/>
            <a:ext cx="228600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86200" y="2286000"/>
            <a:ext cx="1905120" cy="685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3962520" y="3580920"/>
            <a:ext cx="1828800" cy="381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572000" y="838080"/>
            <a:ext cx="1143000" cy="160020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5257800"/>
            <a:ext cx="2286000" cy="1371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 friend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fami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o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4419720" y="4038120"/>
            <a:ext cx="1371600" cy="175284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14363" t="51317" r="58521" b="0"/>
          <a:stretch/>
        </p:blipFill>
        <p:spPr>
          <a:xfrm>
            <a:off x="990720" y="0"/>
            <a:ext cx="1425600" cy="1814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rcRect l="58154" t="23888" r="6316" b="15314"/>
          <a:stretch/>
        </p:blipFill>
        <p:spPr>
          <a:xfrm>
            <a:off x="304920" y="1295280"/>
            <a:ext cx="1407960" cy="17528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rcRect l="24696" t="33090" r="33799" b="0"/>
          <a:stretch/>
        </p:blipFill>
        <p:spPr>
          <a:xfrm>
            <a:off x="380880" y="3200400"/>
            <a:ext cx="1492200" cy="16765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rcRect l="35430" t="17545" r="11161" b="12288"/>
          <a:stretch/>
        </p:blipFill>
        <p:spPr>
          <a:xfrm>
            <a:off x="380880" y="5038560"/>
            <a:ext cx="190512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3426" t="0" r="7076" b="0"/>
          <a:stretch/>
        </p:blipFill>
        <p:spPr>
          <a:xfrm>
            <a:off x="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685800" y="685800"/>
            <a:ext cx="7696080" cy="5715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ummer i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e coolest seaso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1447920" y="1066680"/>
            <a:ext cx="6095880" cy="77004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1371600" y="4648320"/>
            <a:ext cx="6095880" cy="76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4444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364120" y="3809880"/>
            <a:ext cx="499032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people think it’s summ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its long steamy d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not 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rcRect l="0" t="0" r="22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93800" y="5410080"/>
            <a:ext cx="49280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world is warmest in wi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4565" t="4551" r="5022" b="0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6360" y="990720"/>
            <a:ext cx="50086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inter comes, my jac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ffs warm with feath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030640" y="6095880"/>
            <a:ext cx="3763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hat grows earflap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3257" t="0" r="228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16560" y="0"/>
            <a:ext cx="32896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y pants hide de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zzy boot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79800" y="5105520"/>
            <a:ext cx="36813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my hands we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rm wooly swe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335" t="4468" r="3335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613080" y="3048120"/>
            <a:ext cx="81162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inter comes, summer’s plants an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ep deep under thick blankets of snow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3197" b="0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40600" y="1676520"/>
            <a:ext cx="65160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 snowmen I build dance on top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ring warm wraparound scar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5251" t="0" r="0" b="0"/>
          <a:stretch/>
        </p:blipFill>
        <p:spPr>
          <a:xfrm>
            <a:off x="0" y="0"/>
            <a:ext cx="9144000" cy="7018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81240" y="304920"/>
            <a:ext cx="729036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winter comes, my iced summer’s mi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s to hot chocolate.  Cold jelly sandw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rn into grilled chee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5T01:50:32Z</dcterms:created>
  <dc:creator>Admin</dc:creator>
  <dc:description/>
  <dc:language>en-US</dc:language>
  <cp:lastModifiedBy>Chris Yeager</cp:lastModifiedBy>
  <dcterms:modified xsi:type="dcterms:W3CDTF">2007-11-08T18:23:57Z</dcterms:modified>
  <cp:revision>12</cp:revision>
  <dc:subject/>
  <dc:title>Slide 1</dc:title>
</cp:coreProperties>
</file>